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71DB-C163-4561-B2F8-869245901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9F42-0807-46F8-8B19-97AD7230BC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1A28-76D5-4EFC-93E3-BB8107B408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EB17-4A3E-4569-8A1D-D0761B34A1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BB22-51F0-4E32-AB17-32D38A3B71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A107-593D-4933-8623-069A117E88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454C-0EEC-41A2-A6B8-7F668289CA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94DE-EB62-472B-8993-79E5F222B7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DB6F-93E9-42CC-9D8A-841139B0DE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69F7-4D9C-48B2-930C-7D21F8A25B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30A8-19D1-44A0-974E-FDEDCDE5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D493-B506-4634-8557-81F71BF4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D21-A14D-4607-A904-E5D7CFF9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972-503F-4EB7-A9E9-C285A4F0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558-0369-4BDA-83C5-143C6221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21A2-5349-4A5E-9E33-150CBEA7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CE27-6746-4286-B09B-50F00E45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5FB-AC1B-4821-8831-772EE4EA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53720"/>
            <a:ext cx="71629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4C92-C518-4565-BD5B-E017433C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AD3-C202-4F14-ABD9-41A0CAA7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C9F-2621-4C2A-B162-939C8AE1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A03-D72D-4937-9D69-692D0060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D73F-1AED-4C1D-8027-AC32B46D5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rammar.ccc.commnet.edu/grammar/quizzes/nova/nova4.htm" TargetMode="External"/><Relationship Id="rId2" Type="http://schemas.openxmlformats.org/officeDocument/2006/relationships/hyperlink" Target="http://grammar.ccc.commnet.edu/grammar/cgi-shl/quiz.pl/run-ons_add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omma Splices and Run-On Sentence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520" y="548604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y: Jaclyn Hudak, Tanya Mazsa, and Alex Shu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omma Splic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def): a comma splice consists of two _______________connected with a _________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2133720" y="30481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cla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2349360" y="3557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Run-On Sentenc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def): a run-on sentence combines two independent clauses with no __________ or __________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2438280" y="35132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j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4952880" y="35132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nct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ays to Correct Mistake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fbbfa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a __________ (such as “and” or “because”) between the cla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fbbfa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tween the cla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fbbfa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clauses into 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fbbfa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imes add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__________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3581280" y="1295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j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3719520" y="2809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col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5562720" y="3733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e sent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5029200" y="48020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col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2576520" y="5264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junctive adve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Example On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down-pouring outside, make sure you bring an umbrel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down-pouring outside, so make sure you bring an umbrel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676520" y="4800600"/>
            <a:ext cx="6858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a conjunction between the two cla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Example Two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ill teach you how to ride a bike, you must learn the basics first to make it eas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c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ill teach you how to ride a bike; you must learn the basics first to make it eas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828800" y="48006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 semicolon between the claus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Example Thre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vid seems happy at his point in life he never seems to encounter many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ct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vid seems happy at his point in life. He never seems to encounter many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1828800" y="4876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run-on sentence into two separate sen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Example Four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people enjoy watching scary movies, however, others prefer funny mov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c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people enjoy watching scary movies; however, others prefer funny mov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1752480" y="4952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 semicolon with a conjunctive ad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Activities!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a Spl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http://grammar.ccc.commnet.edu/grammar/quizzes/nova/nova4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-On Sent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http://grammar.ccc.commnet.edu/grammar/cgi-shl/quiz.pl/run-ons_add2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5:52:16Z</dcterms:created>
  <dc:creator>Parkland High School</dc:creator>
  <dc:description/>
  <dc:language>en-US</dc:language>
  <cp:lastModifiedBy>test</cp:lastModifiedBy>
  <dcterms:modified xsi:type="dcterms:W3CDTF">2011-10-04T19:29:50Z</dcterms:modified>
  <cp:revision>5</cp:revision>
  <dc:subject/>
  <dc:title>Comma Splices and Run-On Sentences</dc:title>
</cp:coreProperties>
</file>